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101D-785F-48F7-98D2-8A6B6D722E2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7FE4-AC52-4B46-B023-FCDD8B5E3EF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A7B1-CC67-44F4-BFCC-AFE293B86F8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92FE-7D1E-456A-BADE-BE921E5E254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9D26-0F86-4D37-965F-FCA0AE0CF1E6}"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2E59-F1B2-42F3-9DD5-9AEE8E927B6D}"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18D5-88C9-4AB7-9829-AA0EDF056DC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A074-2657-4A5A-93D1-D6331201BBE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5BD6-523A-4E41-9CED-BD250DC528C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E591-27F5-4382-ADB5-75639C3C5E7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A4B457-4C76-4C01-A77D-28F409D50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A62D8F-4528-4EDD-81DF-9DFD9EFDF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1458F0-EFD9-4DA3-9C08-7E224C7A6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A52CAF-7462-4FFD-A802-EC0581D2B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BD6B9A-CA5D-44B5-85FD-D1EFBDD04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4846BB-22E3-4303-BD3D-159164C23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F51CB5-9BC3-42DB-A028-DB8091987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C497C1-AAD4-406C-B567-CE51F761A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94B0F2-E252-4848-B0F3-939D0C5DA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8DFBE5-3FC1-4331-BDF3-162A73BF5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6171BA-E3AF-4D84-AEC5-D9846C632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3A954D-EB26-48F7-9D43-88B0793EE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63C32B-98B6-4793-8B3F-F2451421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F7D21F-670E-4C69-880B-A9870B079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E34C73-11D2-455C-9ECA-8A773BCCF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89D4BB-6B92-4C06-A7DA-B31A1520A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0B3EBD-AC28-465F-A2EA-B2AEE48F2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08B31C-92EF-42EB-93DA-74166C41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2696CF-0F9F-4397-BE7A-3485171E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9B9353-AAE0-417A-8019-27193748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E9A599-B3B8-4BC3-93D8-7A10482F0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0D2B56-E5B9-4C23-BAD8-CB11FFC00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BD96A6-04E3-4F9A-9477-42D73336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F830AE-2A43-42AC-86B7-A0CEFB4A5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053F-CE58-4DB6-9860-F82134B0F5DE}" type="datetime">
              <a:rPr b="0" lang="es-ES_tradnl" sz="1000" spc="-1" strike="noStrike">
                <a:solidFill>
                  <a:srgbClr val="ffff66"/>
                </a:solidFill>
                <a:latin typeface="Arial"/>
              </a:rPr>
              <a:t>31/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D3E3-49EA-450D-8CD4-D4EE0738FBC3}"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61D0-6F60-4BDF-B8C5-301D65F3A6EA}" type="datetime">
              <a:rPr b="0" lang="es-ES_tradnl" sz="1000" spc="-1" strike="noStrike">
                <a:solidFill>
                  <a:srgbClr val="ffffff"/>
                </a:solidFill>
                <a:latin typeface="Arial"/>
              </a:rPr>
              <a:t>31/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EA3A-39ED-4B52-B908-D6354FCC51C0}"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